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CEB5E-D38C-4D7D-A8C5-DA8E997237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BB124-C8F0-4B32-A161-E65F79B162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07EBE-F0FC-41CE-BD57-7AC761BA0B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E2F6F-D655-431D-997F-D506C8A20C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ics defin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5191D-BA9E-482B-9C53-48C6A8A024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CB1DD-D3AE-4049-A74A-41A423051C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22257-3C01-40E5-A722-878A486273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BEE7D-F3BC-465B-A817-375A036869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B84AF-27FD-48E4-B239-9D58164F71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D529C-626F-4580-86D1-4A8A85224D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25EC4-568B-4178-97A5-CA487CEB97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F5C1-C9DD-4AEC-AA40-5EC519486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A3BE-B58A-4D10-A336-841A7956A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E47C-3B0B-496E-8212-9682EBE6D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FF86-7D4D-4EE7-A51B-FD3D7E29B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1EBC6-8CDC-4314-919D-41D083B3B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45D53-2A46-4F30-AB74-366A3FC79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DFD24-631B-404A-AE81-4BB78F993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E3698-95FD-4D77-8662-8A441B41B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03787-5C91-43C8-A46E-A6E783B7E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0C099-6A6F-4A8E-A720-101FC9044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E573F-62C7-44EB-857D-666FA7A0F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71F5-7224-435F-9C0C-429AB5D53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94D35-8A2D-48B7-8D9B-E3C6FF8B1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E9306-C194-4827-8D2C-1F5FB3B24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D3E27-BCF1-4473-A982-7AACF2FF2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EF9EB-609A-4179-9048-732837984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F6D71-E9E2-4810-B717-027C716AE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C1D5-BF41-4693-86B9-B07034715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3C33-9090-4420-9AF6-75FE80E8D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6CF1-7F55-484C-8492-BEEFD9389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2D5A-B554-4303-A6BF-38F60D0A9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65C4-1B86-4341-A7EE-D9152C518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86DF-01F1-41EC-A29A-096C06E3A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9CE5-0558-4475-AFF2-C24D0B830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33FDB-15F0-4AB3-8220-CAB2BAA3F02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54F9F-A65D-4835-9765-CE0CB28095F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3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business-marketing.com/article-businessethics.php" TargetMode="External"/><Relationship Id="rId2" Type="http://schemas.openxmlformats.org/officeDocument/2006/relationships/hyperlink" Target="http://www.youtube.com/watch?v=a2i3VcwJJb0&amp;safe=active" TargetMode="External"/><Relationship Id="rId3" Type="http://schemas.openxmlformats.org/officeDocument/2006/relationships/image" Target="../media/image5.jpeg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be.org.uk/codesofethics/examples.html" TargetMode="External"/><Relationship Id="rId2" Type="http://schemas.openxmlformats.org/officeDocument/2006/relationships/hyperlink" Target="http://www.ehow.com/how_5982751_develop-personal-code-ethics.html" TargetMode="External"/><Relationship Id="rId3" Type="http://schemas.openxmlformats.org/officeDocument/2006/relationships/image" Target="../media/image6.jpeg"/><Relationship Id="rId4" Type="http://schemas.openxmlformats.org/officeDocument/2006/relationships/slide" Target="slide3.xml"/><Relationship Id="rId5" Type="http://schemas.openxmlformats.org/officeDocument/2006/relationships/hyperlink" Target="http://www.gsk.com/about/downloads/Policy-Code-Conduct.pdf" TargetMode="External"/><Relationship Id="rId6" Type="http://schemas.openxmlformats.org/officeDocument/2006/relationships/hyperlink" Target="http://www.ehow.com/how_5982751_develop-personal-code-ethics.html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bloomberg.com/apps/news?pid=20601103&amp;sid=aPDMGOxP0uJQ" TargetMode="External"/><Relationship Id="rId2" Type="http://schemas.openxmlformats.org/officeDocument/2006/relationships/image" Target="../media/image7.jpeg"/><Relationship Id="rId3" Type="http://schemas.openxmlformats.org/officeDocument/2006/relationships/slide" Target="slide3.xm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ybercitizenship.org/crime/crime.html" TargetMode="External"/><Relationship Id="rId2" Type="http://schemas.openxmlformats.org/officeDocument/2006/relationships/hyperlink" Target="http://articles.marco.org/218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thicsworld.org/" TargetMode="External"/><Relationship Id="rId2" Type="http://schemas.openxmlformats.org/officeDocument/2006/relationships/hyperlink" Target="http://www.bloomberg.com/apps/news?pid=20601103&amp;sid=aPDMGOxP0uJQ" TargetMode="External"/><Relationship Id="rId3" Type="http://schemas.openxmlformats.org/officeDocument/2006/relationships/hyperlink" Target="http://www.iquestions.com/" TargetMode="External"/><Relationship Id="rId4" Type="http://schemas.openxmlformats.org/officeDocument/2006/relationships/hyperlink" Target="http://www.ibe.org.uk/codesofethics/examples.html%20Accessed%205/23/10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thic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ethical issues influence business decis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4" descr="MM900300590[1]"/>
          <p:cNvPicPr/>
          <p:nvPr/>
        </p:nvPicPr>
        <p:blipFill>
          <a:blip r:embed="rId1"/>
          <a:stretch/>
        </p:blipFill>
        <p:spPr>
          <a:xfrm>
            <a:off x="4057560" y="2909880"/>
            <a:ext cx="102888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3716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ntegrity is doing the right thing, even if nobody is watching.”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--Jim Stova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MS903169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4609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thic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of moral principles by which people conduct themselves, personally, socially, or profession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ethics"/>
          <p:cNvPicPr/>
          <p:nvPr/>
        </p:nvPicPr>
        <p:blipFill>
          <a:blip r:embed="rId1"/>
          <a:stretch/>
        </p:blipFill>
        <p:spPr>
          <a:xfrm>
            <a:off x="4871880" y="2311560"/>
            <a:ext cx="381492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thical Issu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siness Ethical Dilemm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orkplace Eth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de of Eth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nancial Ethics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yber Ethics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5">
            <a:hlinkClick r:id="" action="ppaction://hlinkshowjump?jump=nextslide"/>
          </p:cNvPr>
          <p:cNvSpPr/>
          <p:nvPr/>
        </p:nvSpPr>
        <p:spPr>
          <a:xfrm>
            <a:off x="5943600" y="175248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3794"/>
                </a:moveTo>
                <a:lnTo>
                  <a:pt x="28590" y="10800"/>
                </a:lnTo>
                <a:lnTo>
                  <a:pt x="14577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6">
            <a:hlinkClick r:id="rId1" action="ppaction://hlinksldjump"/>
          </p:cNvPr>
          <p:cNvSpPr/>
          <p:nvPr/>
        </p:nvSpPr>
        <p:spPr>
          <a:xfrm>
            <a:off x="4572000" y="220968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3794"/>
                </a:moveTo>
                <a:lnTo>
                  <a:pt x="28590" y="10800"/>
                </a:lnTo>
                <a:lnTo>
                  <a:pt x="14577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7">
            <a:hlinkClick r:id="rId2" action="ppaction://hlinksldjump"/>
          </p:cNvPr>
          <p:cNvSpPr/>
          <p:nvPr/>
        </p:nvSpPr>
        <p:spPr>
          <a:xfrm>
            <a:off x="4267080" y="266688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3794"/>
                </a:moveTo>
                <a:lnTo>
                  <a:pt x="28590" y="10800"/>
                </a:lnTo>
                <a:lnTo>
                  <a:pt x="14577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8">
            <a:hlinkClick r:id="rId3" action="ppaction://hlinksldjump"/>
          </p:cNvPr>
          <p:cNvSpPr/>
          <p:nvPr/>
        </p:nvSpPr>
        <p:spPr>
          <a:xfrm>
            <a:off x="4267080" y="320040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3794"/>
                </a:moveTo>
                <a:lnTo>
                  <a:pt x="28590" y="10800"/>
                </a:lnTo>
                <a:lnTo>
                  <a:pt x="14577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9">
            <a:hlinkClick r:id="rId4" action="ppaction://hlinksldjump"/>
          </p:cNvPr>
          <p:cNvSpPr/>
          <p:nvPr/>
        </p:nvSpPr>
        <p:spPr>
          <a:xfrm>
            <a:off x="4038480" y="373392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3794"/>
                </a:moveTo>
                <a:lnTo>
                  <a:pt x="28590" y="10800"/>
                </a:lnTo>
                <a:lnTo>
                  <a:pt x="14577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Business Ethical Dilemma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ke and Reebok, outsource the manufacturing of their shoes to other countr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production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man righ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porate responsibilit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obligations do Nike and Reebok have in regards to these human rights and corporate responsibiliti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9" descr="untitled"/>
          <p:cNvPicPr/>
          <p:nvPr/>
        </p:nvPicPr>
        <p:blipFill>
          <a:blip r:embed="rId1"/>
          <a:stretch/>
        </p:blipFill>
        <p:spPr>
          <a:xfrm>
            <a:off x="5376960" y="2209680"/>
            <a:ext cx="2662200" cy="2289240"/>
          </a:xfrm>
          <a:prstGeom prst="rect">
            <a:avLst/>
          </a:prstGeom>
          <a:ln w="0">
            <a:noFill/>
          </a:ln>
        </p:spPr>
      </p:pic>
      <p:sp>
        <p:nvSpPr>
          <p:cNvPr id="120" name="AutoShape 10">
            <a:hlinkClick r:id="rId2" action="ppaction://hlinksldjump"/>
          </p:cNvPr>
          <p:cNvSpPr/>
          <p:nvPr/>
        </p:nvSpPr>
        <p:spPr>
          <a:xfrm>
            <a:off x="8077320" y="601992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MS900437903[1].wav" descr=""/>
          <p:cNvPicPr/>
          <p:nvPr/>
        </p:nvPicPr>
        <p:blipFill>
          <a:blip r:embed="rId3"/>
          <a:stretch/>
        </p:blipFill>
        <p:spPr>
          <a:xfrm>
            <a:off x="6477120" y="3200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534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orkplace ethic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thical Dilemm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rkplace eth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Business Ethics in the Workpl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Ethics in the Workplace Vide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ethics-pic1"/>
          <p:cNvPicPr/>
          <p:nvPr/>
        </p:nvPicPr>
        <p:blipFill>
          <a:blip r:embed="rId3"/>
          <a:stretch/>
        </p:blipFill>
        <p:spPr>
          <a:xfrm>
            <a:off x="5303880" y="1752480"/>
            <a:ext cx="2698560" cy="241308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5">
            <a:hlinkClick r:id="rId4" action="ppaction://hlinksldjump"/>
          </p:cNvPr>
          <p:cNvSpPr/>
          <p:nvPr/>
        </p:nvSpPr>
        <p:spPr>
          <a:xfrm>
            <a:off x="7772400" y="5562720"/>
            <a:ext cx="530280" cy="457200"/>
          </a:xfrm>
          <a:custGeom>
            <a:avLst/>
            <a:gdLst>
              <a:gd name="textAreaLeft" fmla="*/ 29520 w 530280"/>
              <a:gd name="textAreaRight" fmla="*/ 500760 w 530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050" h="21600">
                <a:moveTo>
                  <a:pt x="0" y="0"/>
                </a:moveTo>
                <a:lnTo>
                  <a:pt x="25050" y="0"/>
                </a:lnTo>
                <a:lnTo>
                  <a:pt x="25050" y="21600"/>
                </a:lnTo>
                <a:lnTo>
                  <a:pt x="0" y="21600"/>
                </a:lnTo>
                <a:close/>
              </a:path>
              <a:path fill="lightenLess" w="25050" h="21600">
                <a:moveTo>
                  <a:pt x="0" y="0"/>
                </a:moveTo>
                <a:lnTo>
                  <a:pt x="25050" y="0"/>
                </a:lnTo>
                <a:lnTo>
                  <a:pt x="23650" y="1400"/>
                </a:lnTo>
                <a:lnTo>
                  <a:pt x="1400" y="1400"/>
                </a:lnTo>
                <a:close/>
              </a:path>
              <a:path fill="darken" w="25050" h="21600">
                <a:moveTo>
                  <a:pt x="25050" y="0"/>
                </a:moveTo>
                <a:lnTo>
                  <a:pt x="25050" y="21600"/>
                </a:lnTo>
                <a:lnTo>
                  <a:pt x="23650" y="20200"/>
                </a:lnTo>
                <a:lnTo>
                  <a:pt x="23650" y="1400"/>
                </a:lnTo>
                <a:close/>
              </a:path>
              <a:path fill="darkenLess" w="25050" h="21600">
                <a:moveTo>
                  <a:pt x="250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50" y="20200"/>
                </a:lnTo>
                <a:close/>
              </a:path>
              <a:path fill="lighten" w="250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50" h="21600">
                <a:moveTo>
                  <a:pt x="12525" y="3837"/>
                </a:moveTo>
                <a:lnTo>
                  <a:pt x="15101" y="6448"/>
                </a:lnTo>
                <a:lnTo>
                  <a:pt x="15101" y="4707"/>
                </a:lnTo>
                <a:lnTo>
                  <a:pt x="16877" y="4707"/>
                </a:lnTo>
                <a:lnTo>
                  <a:pt x="16877" y="8224"/>
                </a:lnTo>
                <a:lnTo>
                  <a:pt x="19488" y="10800"/>
                </a:lnTo>
                <a:lnTo>
                  <a:pt x="17834" y="10800"/>
                </a:lnTo>
                <a:lnTo>
                  <a:pt x="17834" y="17989"/>
                </a:lnTo>
                <a:lnTo>
                  <a:pt x="7216" y="17989"/>
                </a:lnTo>
                <a:lnTo>
                  <a:pt x="7216" y="10800"/>
                </a:lnTo>
                <a:lnTo>
                  <a:pt x="5562" y="10800"/>
                </a:lnTo>
                <a:close/>
              </a:path>
              <a:path fill="darkenLess" w="25050" h="21600">
                <a:moveTo>
                  <a:pt x="15101" y="6448"/>
                </a:moveTo>
                <a:lnTo>
                  <a:pt x="15101" y="4707"/>
                </a:lnTo>
                <a:lnTo>
                  <a:pt x="16877" y="4707"/>
                </a:lnTo>
                <a:lnTo>
                  <a:pt x="16877" y="8224"/>
                </a:lnTo>
                <a:close/>
              </a:path>
              <a:path fill="darkenLess" w="25050" h="21600">
                <a:moveTo>
                  <a:pt x="11602" y="14299"/>
                </a:moveTo>
                <a:lnTo>
                  <a:pt x="13448" y="14299"/>
                </a:lnTo>
                <a:lnTo>
                  <a:pt x="13448" y="17989"/>
                </a:lnTo>
                <a:lnTo>
                  <a:pt x="17834" y="17989"/>
                </a:lnTo>
                <a:lnTo>
                  <a:pt x="17834" y="10800"/>
                </a:lnTo>
                <a:lnTo>
                  <a:pt x="7216" y="10800"/>
                </a:lnTo>
                <a:lnTo>
                  <a:pt x="7216" y="17989"/>
                </a:lnTo>
                <a:lnTo>
                  <a:pt x="11602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Code of Ethics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porate Code of Et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Institute of Business Eth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al Code of Et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How to Develop a Personal Code of Ethic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imagescode"/>
          <p:cNvPicPr/>
          <p:nvPr/>
        </p:nvPicPr>
        <p:blipFill>
          <a:blip r:embed="rId3"/>
          <a:stretch/>
        </p:blipFill>
        <p:spPr>
          <a:xfrm>
            <a:off x="5664240" y="1905120"/>
            <a:ext cx="2590920" cy="259380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6">
            <a:hlinkClick r:id="rId4" action="ppaction://hlinksldjump"/>
          </p:cNvPr>
          <p:cNvSpPr/>
          <p:nvPr/>
        </p:nvSpPr>
        <p:spPr>
          <a:xfrm>
            <a:off x="7696080" y="5486400"/>
            <a:ext cx="530280" cy="457200"/>
          </a:xfrm>
          <a:custGeom>
            <a:avLst/>
            <a:gdLst>
              <a:gd name="textAreaLeft" fmla="*/ 29520 w 530280"/>
              <a:gd name="textAreaRight" fmla="*/ 500760 w 530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050" h="21600">
                <a:moveTo>
                  <a:pt x="0" y="0"/>
                </a:moveTo>
                <a:lnTo>
                  <a:pt x="25050" y="0"/>
                </a:lnTo>
                <a:lnTo>
                  <a:pt x="25050" y="21600"/>
                </a:lnTo>
                <a:lnTo>
                  <a:pt x="0" y="21600"/>
                </a:lnTo>
                <a:close/>
              </a:path>
              <a:path fill="lightenLess" w="25050" h="21600">
                <a:moveTo>
                  <a:pt x="0" y="0"/>
                </a:moveTo>
                <a:lnTo>
                  <a:pt x="25050" y="0"/>
                </a:lnTo>
                <a:lnTo>
                  <a:pt x="23650" y="1400"/>
                </a:lnTo>
                <a:lnTo>
                  <a:pt x="1400" y="1400"/>
                </a:lnTo>
                <a:close/>
              </a:path>
              <a:path fill="darken" w="25050" h="21600">
                <a:moveTo>
                  <a:pt x="25050" y="0"/>
                </a:moveTo>
                <a:lnTo>
                  <a:pt x="25050" y="21600"/>
                </a:lnTo>
                <a:lnTo>
                  <a:pt x="23650" y="20200"/>
                </a:lnTo>
                <a:lnTo>
                  <a:pt x="23650" y="1400"/>
                </a:lnTo>
                <a:close/>
              </a:path>
              <a:path fill="darkenLess" w="25050" h="21600">
                <a:moveTo>
                  <a:pt x="250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50" y="20200"/>
                </a:lnTo>
                <a:close/>
              </a:path>
              <a:path fill="lighten" w="250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50" h="21600">
                <a:moveTo>
                  <a:pt x="12525" y="3837"/>
                </a:moveTo>
                <a:lnTo>
                  <a:pt x="15101" y="6448"/>
                </a:lnTo>
                <a:lnTo>
                  <a:pt x="15101" y="4707"/>
                </a:lnTo>
                <a:lnTo>
                  <a:pt x="16877" y="4707"/>
                </a:lnTo>
                <a:lnTo>
                  <a:pt x="16877" y="8224"/>
                </a:lnTo>
                <a:lnTo>
                  <a:pt x="19488" y="10800"/>
                </a:lnTo>
                <a:lnTo>
                  <a:pt x="17834" y="10800"/>
                </a:lnTo>
                <a:lnTo>
                  <a:pt x="17834" y="17989"/>
                </a:lnTo>
                <a:lnTo>
                  <a:pt x="7216" y="17989"/>
                </a:lnTo>
                <a:lnTo>
                  <a:pt x="7216" y="10800"/>
                </a:lnTo>
                <a:lnTo>
                  <a:pt x="5562" y="10800"/>
                </a:lnTo>
                <a:close/>
              </a:path>
              <a:path fill="darkenLess" w="25050" h="21600">
                <a:moveTo>
                  <a:pt x="15101" y="6448"/>
                </a:moveTo>
                <a:lnTo>
                  <a:pt x="15101" y="4707"/>
                </a:lnTo>
                <a:lnTo>
                  <a:pt x="16877" y="4707"/>
                </a:lnTo>
                <a:lnTo>
                  <a:pt x="16877" y="8224"/>
                </a:lnTo>
                <a:close/>
              </a:path>
              <a:path fill="darkenLess" w="25050" h="21600">
                <a:moveTo>
                  <a:pt x="11602" y="14299"/>
                </a:moveTo>
                <a:lnTo>
                  <a:pt x="13448" y="14299"/>
                </a:lnTo>
                <a:lnTo>
                  <a:pt x="13448" y="17989"/>
                </a:lnTo>
                <a:lnTo>
                  <a:pt x="17834" y="17989"/>
                </a:lnTo>
                <a:lnTo>
                  <a:pt x="17834" y="10800"/>
                </a:lnTo>
                <a:lnTo>
                  <a:pt x="7216" y="10800"/>
                </a:lnTo>
                <a:lnTo>
                  <a:pt x="7216" y="17989"/>
                </a:lnTo>
                <a:lnTo>
                  <a:pt x="11602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914400" y="1600200"/>
            <a:ext cx="381492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porate Code of Et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990033"/>
                </a:solidFill>
                <a:uFillTx/>
                <a:latin typeface="Arial"/>
                <a:hlinkClick r:id="rId5"/>
              </a:rPr>
              <a:t>Institute of Business Ethics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 (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GlaxoSmithK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al Code of Et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990033"/>
                </a:solidFill>
                <a:uFillTx/>
                <a:latin typeface="Arial"/>
                <a:hlinkClick r:id="rId6"/>
              </a:rPr>
              <a:t>How to Develop a Personal Code of Ethic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Financial Ethic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rnie Mad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Bernard Madoff Gets 150 Years in Jail for Epic Fraud (Update7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1" descr="data"/>
          <p:cNvPicPr/>
          <p:nvPr/>
        </p:nvPicPr>
        <p:blipFill>
          <a:blip r:embed="rId2"/>
          <a:stretch/>
        </p:blipFill>
        <p:spPr>
          <a:xfrm>
            <a:off x="4876920" y="2362320"/>
            <a:ext cx="3814560" cy="3031920"/>
          </a:xfrm>
          <a:prstGeom prst="rect">
            <a:avLst/>
          </a:prstGeom>
          <a:ln w="0">
            <a:noFill/>
          </a:ln>
        </p:spPr>
      </p:pic>
      <p:sp>
        <p:nvSpPr>
          <p:cNvPr id="134" name="AutoShape 12">
            <a:hlinkClick r:id="rId3" action="ppaction://hlinksldjump"/>
          </p:cNvPr>
          <p:cNvSpPr/>
          <p:nvPr/>
        </p:nvSpPr>
        <p:spPr>
          <a:xfrm>
            <a:off x="7696080" y="5815080"/>
            <a:ext cx="530280" cy="457200"/>
          </a:xfrm>
          <a:custGeom>
            <a:avLst/>
            <a:gdLst>
              <a:gd name="textAreaLeft" fmla="*/ 29520 w 530280"/>
              <a:gd name="textAreaRight" fmla="*/ 500760 w 530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050" h="21600">
                <a:moveTo>
                  <a:pt x="0" y="0"/>
                </a:moveTo>
                <a:lnTo>
                  <a:pt x="25050" y="0"/>
                </a:lnTo>
                <a:lnTo>
                  <a:pt x="25050" y="21600"/>
                </a:lnTo>
                <a:lnTo>
                  <a:pt x="0" y="21600"/>
                </a:lnTo>
                <a:close/>
              </a:path>
              <a:path fill="lightenLess" w="25050" h="21600">
                <a:moveTo>
                  <a:pt x="0" y="0"/>
                </a:moveTo>
                <a:lnTo>
                  <a:pt x="25050" y="0"/>
                </a:lnTo>
                <a:lnTo>
                  <a:pt x="23650" y="1400"/>
                </a:lnTo>
                <a:lnTo>
                  <a:pt x="1400" y="1400"/>
                </a:lnTo>
                <a:close/>
              </a:path>
              <a:path fill="darken" w="25050" h="21600">
                <a:moveTo>
                  <a:pt x="25050" y="0"/>
                </a:moveTo>
                <a:lnTo>
                  <a:pt x="25050" y="21600"/>
                </a:lnTo>
                <a:lnTo>
                  <a:pt x="23650" y="20200"/>
                </a:lnTo>
                <a:lnTo>
                  <a:pt x="23650" y="1400"/>
                </a:lnTo>
                <a:close/>
              </a:path>
              <a:path fill="darkenLess" w="25050" h="21600">
                <a:moveTo>
                  <a:pt x="250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50" y="20200"/>
                </a:lnTo>
                <a:close/>
              </a:path>
              <a:path fill="lighten" w="250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50" h="21600">
                <a:moveTo>
                  <a:pt x="12525" y="3837"/>
                </a:moveTo>
                <a:lnTo>
                  <a:pt x="15101" y="6448"/>
                </a:lnTo>
                <a:lnTo>
                  <a:pt x="15101" y="4707"/>
                </a:lnTo>
                <a:lnTo>
                  <a:pt x="16877" y="4707"/>
                </a:lnTo>
                <a:lnTo>
                  <a:pt x="16877" y="8224"/>
                </a:lnTo>
                <a:lnTo>
                  <a:pt x="19488" y="10800"/>
                </a:lnTo>
                <a:lnTo>
                  <a:pt x="17834" y="10800"/>
                </a:lnTo>
                <a:lnTo>
                  <a:pt x="17834" y="17989"/>
                </a:lnTo>
                <a:lnTo>
                  <a:pt x="7216" y="17989"/>
                </a:lnTo>
                <a:lnTo>
                  <a:pt x="7216" y="10800"/>
                </a:lnTo>
                <a:lnTo>
                  <a:pt x="5562" y="10800"/>
                </a:lnTo>
                <a:close/>
              </a:path>
              <a:path fill="darkenLess" w="25050" h="21600">
                <a:moveTo>
                  <a:pt x="15101" y="6448"/>
                </a:moveTo>
                <a:lnTo>
                  <a:pt x="15101" y="4707"/>
                </a:lnTo>
                <a:lnTo>
                  <a:pt x="16877" y="4707"/>
                </a:lnTo>
                <a:lnTo>
                  <a:pt x="16877" y="8224"/>
                </a:lnTo>
                <a:close/>
              </a:path>
              <a:path fill="darkenLess" w="25050" h="21600">
                <a:moveTo>
                  <a:pt x="11602" y="14299"/>
                </a:moveTo>
                <a:lnTo>
                  <a:pt x="13448" y="14299"/>
                </a:lnTo>
                <a:lnTo>
                  <a:pt x="13448" y="17989"/>
                </a:lnTo>
                <a:lnTo>
                  <a:pt x="17834" y="17989"/>
                </a:lnTo>
                <a:lnTo>
                  <a:pt x="17834" y="10800"/>
                </a:lnTo>
                <a:lnTo>
                  <a:pt x="7216" y="10800"/>
                </a:lnTo>
                <a:lnTo>
                  <a:pt x="7216" y="17989"/>
                </a:lnTo>
                <a:lnTo>
                  <a:pt x="11602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MS903169.wav" descr=""/>
          <p:cNvPicPr/>
          <p:nvPr/>
        </p:nvPicPr>
        <p:blipFill>
          <a:blip r:embed="rId4"/>
          <a:stretch/>
        </p:blipFill>
        <p:spPr>
          <a:xfrm>
            <a:off x="8229600" y="4876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813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yber Ethic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The Cyber Citizen Partnersh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Department of Justice categorizes computer crime in three way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computer as a targe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ttacking the computers of others (spreading viruses is an example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computer as a weap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using a computer to commit "traditional crime" that we see in the physical world (such as fraud or illegal gambling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computer as an accesso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using a computer as a "fancy filing cabinet" to store illegal or stolen informati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The Ethics of Music Sha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0" descr="MP900387725[2]"/>
          <p:cNvPicPr/>
          <p:nvPr/>
        </p:nvPicPr>
        <p:blipFill>
          <a:blip r:embed="rId3"/>
          <a:stretch/>
        </p:blipFill>
        <p:spPr>
          <a:xfrm>
            <a:off x="5016600" y="2057400"/>
            <a:ext cx="3454200" cy="26128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3"/>
          <p:cNvSpPr/>
          <p:nvPr/>
        </p:nvSpPr>
        <p:spPr>
          <a:xfrm>
            <a:off x="6324480" y="62485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nesty” by Billy Jo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orks Cite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thics World </a:t>
            </a:r>
            <a:r>
              <a:rPr b="0" lang="en-US" sz="12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http://www.ethicsworld.org/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Accessed 5/23/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 Glovin, Patricia Hurtado and Thom Weidlich Bernard Madoff Gets 150 Years in Jail for Epic Fraud </a:t>
            </a:r>
            <a:r>
              <a:rPr b="0" lang="en-US" sz="12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http://www.bloomberg.com/apps/news?pid=20601103&amp;sid=aPDMGOxP0uJQ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cessed 5/23/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handle workplace ethics situations. Yahoo Videos, Apr 21, 2009  </a:t>
            </a:r>
            <a:r>
              <a:rPr b="0" lang="en-US" sz="1200" spc="-1" strike="noStrike" u="sng">
                <a:solidFill>
                  <a:srgbClr val="990033"/>
                </a:solidFill>
                <a:uFillTx/>
                <a:latin typeface="Arial"/>
                <a:hlinkClick r:id="rId3"/>
              </a:rPr>
              <a:t>www.iquestions.c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cessed 5/23/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tute of Business Ethics. </a:t>
            </a:r>
            <a:r>
              <a:rPr b="0" lang="en-US" sz="1200" spc="-1" strike="noStrike" u="sng">
                <a:solidFill>
                  <a:srgbClr val="990033"/>
                </a:solidFill>
                <a:uFillTx/>
                <a:latin typeface="Arial"/>
                <a:hlinkClick r:id="rId4"/>
              </a:rPr>
              <a:t>http://www.ibe.org.uk/codesofethics/examples.html Accessed 5/23/1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meron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How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ibuting Writer. “How to develop a personal code of ethics” http://www.ehow.com/how_5982751_develop-personal-code-ethics.html Accessed 5/23/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yber Citizen Partnership </a:t>
            </a:r>
            <a:r>
              <a:rPr b="0" lang="en-US" sz="1200" spc="-1" strike="noStrike">
                <a:solidFill>
                  <a:srgbClr val="0066cc"/>
                </a:solidFill>
                <a:latin typeface="Arial"/>
              </a:rPr>
              <a:t>http://www.cybercitizenship.or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 Accessed 5/23/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thics of Music Sharing </a:t>
            </a:r>
            <a:r>
              <a:rPr b="0" lang="en-US" sz="1200" spc="-1" strike="noStrike">
                <a:solidFill>
                  <a:srgbClr val="990033"/>
                </a:solidFill>
                <a:latin typeface="Arial"/>
              </a:rPr>
              <a:t>http://articles.marco.org/218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ssed 5/23/10, Accessed 5/23/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VD “Business Ethics on the Job: and reproducible activities, Human Relations Media. Mount Kisco, NY. www.hrmvideo.com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BN 1-55548-164-7. LHS Media Center 3057000015752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2286000" y="2719440"/>
            <a:ext cx="4572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6T15:44:09Z</dcterms:created>
  <dc:creator>HP Authorized Customer</dc:creator>
  <dc:description/>
  <dc:language>en-US</dc:language>
  <cp:lastModifiedBy>Giordano, Antoinette</cp:lastModifiedBy>
  <dcterms:modified xsi:type="dcterms:W3CDTF">2013-06-04T12:37:04Z</dcterms:modified>
  <cp:revision>57</cp:revision>
  <dc:subject/>
  <dc:title>Slide 1</dc:title>
</cp:coreProperties>
</file>